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2.wmf" ContentType="image/x-wmf"/>
  <Override PartName="/ppt/media/chimes.wav" ContentType="audio/x-wav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291-10C7-4C13-A897-E75552E2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F8C-9762-4FB2-B077-D0429724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FCA-600A-488F-B71E-572EA21C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B0F-BF3B-4932-87C9-049583A5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664-D9E6-4790-B082-5FB91F9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D3D-E8D3-42EB-9022-234B1D1B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84F-ACAA-411A-B020-697EA34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FCA-A11E-4E41-8CFD-E18E5E0C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843-09C0-414F-8803-47F988D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601-4209-47B4-892F-A790313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521-6334-4705-BAB4-A5BD073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790-A61B-40E8-B398-1E8E31F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65D-37B4-4572-AAA6-775402B45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Text Box 24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32" descr="C:\Program Files\Microsoft Office\Clipart\Powerpnt\soup.wmf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3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4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6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7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31" descr="C:\Program Files\Microsoft Office\Clipart\Office\Car1.wmf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31" descr="C:\Program Files\Microsoft Office\Clipart\Scrbeans\DANCING.WMF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8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9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1" descr="C:\Program Files\Microsoft Office\Clipart\Powerpnt\teacher.wmf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5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6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7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8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9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1" descr="c:\Program Files\Common Files\Microsoft Shared\Clipart\cagcat50\en00500_.wmf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5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6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7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8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9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1" descr="c:\Program Files\Common Files\Microsoft Shared\Clipart\cagcat50\bs00554_.wmf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Text Box 24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1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2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4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5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6"/>
          <p:cNvSpPr/>
          <p:nvPr/>
        </p:nvSpPr>
        <p:spPr>
          <a:xfrm>
            <a:off x="3094200" y="495288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(Os) le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7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 Box 26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8" descr="c:\Program Files\Microsoft Office\Clipart\standard\stddir1\bd05090_.wmf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Text Box 27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0" descr="c:\Office2000\Clipart\Pub60Cor\pe00542_.wmf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1" descr="c:\Office2000\Clipart\Pub60Cor\pe00542_.wmf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27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1" descr="c:\Office2000\Clipart\Pub60Cor\na01069_.wmf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24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30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Text Box 27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24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7" descr="c:\Program Files\Common Files\Microsoft Shared\Clipart\cagcat50\bs00559_.wmf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ject 1028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Object 1033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103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1048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53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55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56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57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102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1025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Object 102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Text Box 1048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53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54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Text Box 26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 </cp:lastModifiedBy>
  <dcterms:modified xsi:type="dcterms:W3CDTF">2011-12-15T21:04:32Z</dcterms:modified>
  <cp:revision>494</cp:revision>
  <dc:subject/>
  <dc:title>PowerPoint Presentation</dc:title>
</cp:coreProperties>
</file>